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d469b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AD84DEF0-7509-4D83-AA95-C3DE98E363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Welcome and introductions – name, position, board  parking l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st important thing that I learned about linear relations today is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A06C-83AF-4C52-BA37-ED0C30554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481A-3ED5-4A03-9443-ADD32EA02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7B34-7CAE-4785-939F-FC88594D5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CB14-CA07-4593-AEB8-FA055E03E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A4E84-52EC-4ABE-BDB8-6062FC606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7A2F2-597C-4BAB-B7EC-34FB83D70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D9A48-29BA-4D1C-A321-DD81798B9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7B96D-7C1F-4A41-B825-BA5E01C75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0498E-3CCA-4DBE-8373-BB81E4C26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BC922-EBB8-4284-8E70-02D00485C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E38E0-3B98-4517-9D4F-CAFBE1759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70E2-3956-46C6-BCD1-33CC056D3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54464-256C-4E53-B53E-B331EF2F5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1C065-7C90-4C46-9F30-5693A2AED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7FC2E-6405-47E4-86EE-E50C15D88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DDD9D-0B6B-41B3-AC18-3F4EA71EA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16DDB-D9D4-4EBA-BC99-0788F2B52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9EFB-4E89-4528-A981-E9C64BA42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095D-AC96-43D5-A3D1-65CD7817F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984E-2EF6-4A81-A507-27FB67530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8EBC-9752-420F-BFE6-B3BE31D7F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77E8-60EE-4689-BE68-4E2F73BE9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934D-055D-4BC2-8482-62CA32F6C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A532-727E-48C6-8EB3-A036FED6B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00DB3-A80F-4006-A881-E34E8DB3ACAF}" type="slidenum"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FA242-B41B-4A31-B3BA-163CC9AF0B69}" type="slidenum"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369720"/>
            <a:ext cx="6840360" cy="142920"/>
          </a:xfrm>
          <a:prstGeom prst="rect">
            <a:avLst/>
          </a:prstGeom>
          <a:gradFill rotWithShape="0">
            <a:gsLst>
              <a:gs pos="0">
                <a:srgbClr val="3199bd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6732720" y="77760"/>
            <a:ext cx="2293920" cy="830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152280"/>
            <a:ext cx="2862360" cy="53769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1676520"/>
            <a:ext cx="57150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9F07F-D54E-4E20-A691-AAED0941474F}" type="slidenum"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190440" y="5638680"/>
            <a:ext cx="2552760" cy="9414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742840" y="1599840"/>
            <a:ext cx="5715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d469b"/>
                </a:solidFill>
                <a:latin typeface="Arial"/>
              </a:rPr>
              <a:t>Linear Relations</a:t>
            </a:r>
            <a:br>
              <a:rPr sz="4800"/>
            </a:br>
            <a:r>
              <a:rPr b="1" i="1" lang="en-US" sz="4800" spc="-1" strike="noStrike">
                <a:solidFill>
                  <a:srgbClr val="0d469b"/>
                </a:solidFill>
                <a:latin typeface="Arial"/>
              </a:rPr>
              <a:t>Day 3</a:t>
            </a:r>
            <a:endParaRPr b="0" lang="en-US" sz="48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742840" y="3733920"/>
            <a:ext cx="57150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h CAMPP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gust 19,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743200" y="5867280"/>
            <a:ext cx="6172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Greg Clar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Trish Stee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"/>
          <p:cNvGrpSpPr/>
          <p:nvPr/>
        </p:nvGrpSpPr>
        <p:grpSpPr>
          <a:xfrm>
            <a:off x="415800" y="787320"/>
            <a:ext cx="8331480" cy="5867640"/>
            <a:chOff x="415800" y="787320"/>
            <a:chExt cx="8331480" cy="5867640"/>
          </a:xfrm>
        </p:grpSpPr>
        <p:grpSp>
          <p:nvGrpSpPr>
            <p:cNvPr id="110" name=""/>
            <p:cNvGrpSpPr/>
            <p:nvPr/>
          </p:nvGrpSpPr>
          <p:grpSpPr>
            <a:xfrm>
              <a:off x="415800" y="787320"/>
              <a:ext cx="8331480" cy="5867640"/>
              <a:chOff x="415800" y="787320"/>
              <a:chExt cx="8331480" cy="5867640"/>
            </a:xfrm>
          </p:grpSpPr>
          <p:sp>
            <p:nvSpPr>
              <p:cNvPr id="111" name=""/>
              <p:cNvSpPr/>
              <p:nvPr/>
            </p:nvSpPr>
            <p:spPr>
              <a:xfrm>
                <a:off x="415800" y="805320"/>
                <a:ext cx="8331480" cy="5831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4594320" y="787320"/>
                <a:ext cx="0" cy="586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415800" y="3675240"/>
                <a:ext cx="8318880" cy="36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197160" y="3072240"/>
                <a:ext cx="2781360" cy="1352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" name=""/>
            <p:cNvSpPr/>
            <p:nvPr/>
          </p:nvSpPr>
          <p:spPr>
            <a:xfrm>
              <a:off x="504720" y="1006560"/>
              <a:ext cx="2349360" cy="54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efini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04720" y="3821400"/>
              <a:ext cx="2349360" cy="54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xamp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359760" y="3894480"/>
              <a:ext cx="2349360" cy="54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on-examp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346800" y="878400"/>
              <a:ext cx="2349360" cy="54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haracteristics/Fac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150920" y="782640"/>
            <a:ext cx="5459400" cy="5346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557360" y="1263600"/>
            <a:ext cx="6014880" cy="439740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  <p:sp>
        <p:nvSpPr>
          <p:cNvPr id="121" name=""/>
          <p:cNvSpPr/>
          <p:nvPr/>
        </p:nvSpPr>
        <p:spPr>
          <a:xfrm>
            <a:off x="4410000" y="1720800"/>
            <a:ext cx="914400" cy="8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71400" y="560160"/>
            <a:ext cx="8229600" cy="16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d469b"/>
                </a:solidFill>
                <a:latin typeface="Arial"/>
              </a:rPr>
              <a:t>Linear Relations</a:t>
            </a:r>
            <a:br>
              <a:rPr sz="4000"/>
            </a:br>
            <a:r>
              <a:rPr b="0" lang="en-US" sz="4000" spc="-1" strike="noStrike">
                <a:solidFill>
                  <a:srgbClr val="0d469b"/>
                </a:solidFill>
                <a:latin typeface="Arial"/>
              </a:rPr>
              <a:t>Manipulatives &amp; Technology</a:t>
            </a:r>
            <a:br>
              <a:rPr sz="4000"/>
            </a:br>
            <a:r>
              <a:rPr b="0" lang="en-US" sz="4000" spc="-1" strike="noStrike">
                <a:solidFill>
                  <a:srgbClr val="0d469b"/>
                </a:solidFill>
                <a:latin typeface="Arial"/>
              </a:rPr>
              <a:t>Carousel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924440" y="2470320"/>
            <a:ext cx="3219480" cy="38289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8" name=""/>
          <p:cNvSpPr/>
          <p:nvPr/>
        </p:nvSpPr>
        <p:spPr>
          <a:xfrm>
            <a:off x="620640" y="2338560"/>
            <a:ext cx="380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b78c"/>
                </a:solidFill>
                <a:latin typeface="Arial"/>
              </a:rPr>
              <a:t>Explore 5 out of 8 s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20800" y="2944800"/>
            <a:ext cx="345600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tion A:  TI-Nsp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tion B:  CB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tion C:  Gizm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tion D:  CL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tion E:   G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tion F:   Square T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tion G:  Linking Cub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tion H:  Real-lif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80280" y="2402280"/>
            <a:ext cx="9035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333399"/>
                </a:solidFill>
                <a:latin typeface="Arial"/>
              </a:rPr>
              <a:t>Which Big Ideas were addresse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333399"/>
                </a:solidFill>
                <a:latin typeface="Arial"/>
              </a:rPr>
              <a:t>through the tasks you di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421200" y="1435320"/>
            <a:ext cx="8352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333399"/>
                </a:solidFill>
                <a:latin typeface="Arial"/>
              </a:rPr>
              <a:t>What Mathematical Process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333399"/>
                </a:solidFill>
                <a:latin typeface="Arial"/>
              </a:rPr>
              <a:t>did you experienc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333399"/>
                </a:solidFill>
                <a:latin typeface="Arial"/>
              </a:rPr>
              <a:t>when answering the task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187280" y="3589200"/>
            <a:ext cx="2859120" cy="27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559880" y="2041560"/>
            <a:ext cx="60206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333399"/>
                </a:solidFill>
                <a:latin typeface="Arial"/>
              </a:rPr>
              <a:t>How can you use an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333399"/>
                </a:solidFill>
                <a:latin typeface="Arial"/>
              </a:rPr>
              <a:t>of these task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333399"/>
                </a:solidFill>
                <a:latin typeface="Arial"/>
              </a:rPr>
              <a:t>for studen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333399"/>
                </a:solidFill>
                <a:latin typeface="Arial"/>
              </a:rPr>
              <a:t>in your classroo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67560" y="2495880"/>
            <a:ext cx="8381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333399"/>
                </a:solidFill>
                <a:latin typeface="Arial"/>
              </a:rPr>
              <a:t>What would you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333399"/>
                </a:solidFill>
                <a:latin typeface="Arial"/>
              </a:rPr>
              <a:t>change or alter with the task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345320" y="2041560"/>
            <a:ext cx="6453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333399"/>
                </a:solidFill>
                <a:latin typeface="Arial"/>
              </a:rPr>
              <a:t>Which task did you fi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CA" sz="4400" spc="-1" strike="noStrike">
                <a:solidFill>
                  <a:srgbClr val="333399"/>
                </a:solidFill>
                <a:latin typeface="Arial"/>
              </a:rPr>
              <a:t>the hardest to do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333399"/>
                </a:solidFill>
                <a:latin typeface="Arial"/>
              </a:rPr>
              <a:t>Wh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215720" y="2376720"/>
            <a:ext cx="67125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4400" spc="-1" strike="noStrike">
                <a:solidFill>
                  <a:srgbClr val="333399"/>
                </a:solidFill>
                <a:latin typeface="Arial"/>
              </a:rPr>
              <a:t>Which task di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Arial"/>
              </a:rPr>
              <a:t>you find the easiest to d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CA" sz="4400" spc="-1" strike="noStrike">
                <a:solidFill>
                  <a:srgbClr val="333399"/>
                </a:solidFill>
                <a:latin typeface="Arial"/>
              </a:rPr>
              <a:t>Wh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Task: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41200" y="2151000"/>
            <a:ext cx="8245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reate a parallel task that is appropriate for your     learning goal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4T01:11:23Z</dcterms:created>
  <dc:creator>Myrna Ingalls</dc:creator>
  <dc:description/>
  <dc:language>en-US</dc:language>
  <cp:lastModifiedBy>PSteele</cp:lastModifiedBy>
  <dcterms:modified xsi:type="dcterms:W3CDTF">2009-08-05T11:52:12Z</dcterms:modified>
  <cp:revision>130</cp:revision>
  <dc:subject/>
  <dc:title>Math GAINS 2008-09</dc:title>
</cp:coreProperties>
</file>